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1.jpeg" ContentType="image/jpeg"/>
  <Override PartName="/ppt/media/image35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9AEF-4196-41B3-A075-9FFF614B3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A3FF-9D72-4148-8FA3-0DC8C7472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EF1D-5CE8-4DEF-8941-C44DC1118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DB9A-89DF-4FAF-A55D-B653542C4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BF5A-03FB-4758-ACA1-2DA96A325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D337-7B0B-4E1A-9A33-9E4978621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93B9-A06B-4E59-9D04-9E8F259F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C048-8DE6-4B9F-BCF2-1527913E2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2491-98A3-412D-893A-26C3042DF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20F1-074E-43E4-B323-70FE027D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60CF-D77F-4723-8ED6-50DA2590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D516-62D2-4F9B-AE3B-D8FD61C7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0A55E-0196-4CEE-862F-387E6EAB5A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Arial"/>
              </a:rPr>
              <a:t>Память </a:t>
            </a:r>
            <a:br>
              <a:rPr sz="6000"/>
            </a:br>
            <a:r>
              <a:rPr b="1" i="1" lang="ru-RU" sz="6000" spc="-1" strike="noStrike">
                <a:solidFill>
                  <a:srgbClr val="ff0000"/>
                </a:solidFill>
                <a:latin typeface="Arial"/>
              </a:rPr>
              <a:t>о Холокосте – </a:t>
            </a:r>
            <a:br>
              <a:rPr sz="6000"/>
            </a:br>
            <a:r>
              <a:rPr b="1" i="1" lang="ru-RU" sz="6000" spc="-1" strike="noStrike">
                <a:solidFill>
                  <a:srgbClr val="ff0000"/>
                </a:solidFill>
                <a:latin typeface="Arial"/>
              </a:rPr>
              <a:t>путь </a:t>
            </a:r>
            <a:br>
              <a:rPr sz="6000"/>
            </a:br>
            <a:r>
              <a:rPr b="1" i="1" lang="ru-RU" sz="6000" spc="-1" strike="noStrike">
                <a:solidFill>
                  <a:srgbClr val="ff0000"/>
                </a:solidFill>
                <a:latin typeface="Arial"/>
              </a:rPr>
              <a:t>к толерантност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79280" y="1412640"/>
            <a:ext cx="446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Национализм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– идеология и политика, основа которых в идее национальной исключительности, национального превосходст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phoca_thumb_l_Гитлер и Борман обходят строй штурмовиков"/>
          <p:cNvPicPr/>
          <p:nvPr/>
        </p:nvPicPr>
        <p:blipFill>
          <a:blip r:embed="rId1"/>
          <a:stretch/>
        </p:blipFill>
        <p:spPr>
          <a:xfrm>
            <a:off x="4500720" y="1557360"/>
            <a:ext cx="446400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79280" y="620280"/>
            <a:ext cx="46800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 1932 году к власти пришла Национал- Социалистическая Рабочая Партия Германии (нацисты), а в январе 1933 года Гитлер был назначен канцлером Герма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adolfhitler52_20070928_1008681807"/>
          <p:cNvPicPr/>
          <p:nvPr/>
        </p:nvPicPr>
        <p:blipFill>
          <a:blip r:embed="rId1"/>
          <a:stretch/>
        </p:blipFill>
        <p:spPr>
          <a:xfrm>
            <a:off x="5219640" y="907920"/>
            <a:ext cx="37400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акон о защите немецкой крови и немецкой расы от 15 сентября 1935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1.1. Браки между евреями и государственными подданными немецкой или родственной крови запреще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2. Половая связь между евреями и государственными подданными немецкой или родственной крови запреще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3. Евреям запрещается нанимать на работу у себя в дом женщин - государственных подданных немецкой или родственной крови, не достигших 45 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4.2. Евреям разрешено ношение одежды еврейских цветов. Это право охраняется государств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96472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БЪЯСНЕНИЕ К ЗАКОН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 ГРАЖДАНСТВЕ РЕЙХ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 14 НОЯБРЯ 1935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4.1. Еврей не может быть гражданином Рейха. Он не имеет права голоса в политических вопросах, не может занимать должностей в государственных учрежден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4.2. Чиновники-евреи будут уволены до 31 декабря 1935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5.1. Евреем считается лицо, среди предков которого во втором поколении (бабки и деды) имелось не менее трех лиц еврейской расы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5.2. "Митлинг", который является государственным подданным, также считается евреем, если он происходит от двух еврейских пред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-360" y="1196640"/>
            <a:ext cx="421164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 1937 году нацисты начали отправлять евреев в концентрационные лагер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739px-Buchenwald_Slave_Laborers_Liberation"/>
          <p:cNvPicPr/>
          <p:nvPr/>
        </p:nvPicPr>
        <p:blipFill>
          <a:blip r:embed="rId1"/>
          <a:stretch/>
        </p:blipFill>
        <p:spPr>
          <a:xfrm>
            <a:off x="4140360" y="981000"/>
            <a:ext cx="50036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5003280" y="404280"/>
            <a:ext cx="374508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 ночь на 4 ноября 1938 г. произошел еврейский погром, вошедший в историю как «Хрустальная ночь» (ночь битых стекол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bd7dfdd576d58b815de26ce39f6c066a"/>
          <p:cNvPicPr/>
          <p:nvPr/>
        </p:nvPicPr>
        <p:blipFill>
          <a:blip r:embed="rId1"/>
          <a:stretch/>
        </p:blipFill>
        <p:spPr>
          <a:xfrm>
            <a:off x="324000" y="1341360"/>
            <a:ext cx="460836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647960" y="476280"/>
            <a:ext cx="424476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Тогда погибли около 100 000 евреев. Более 30 тысяч евреев после этого были отправлены в концентрационные лагер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ievrieiskii_poghrom"/>
          <p:cNvPicPr/>
          <p:nvPr/>
        </p:nvPicPr>
        <p:blipFill>
          <a:blip r:embed="rId1"/>
          <a:stretch/>
        </p:blipFill>
        <p:spPr>
          <a:xfrm>
            <a:off x="250920" y="1268280"/>
            <a:ext cx="4608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384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«Гетто» -охраняемые немецкими нацистами или поддерживающими их режим местными националистами жилые зоны, находящиеся на оккупированных территориях, куда насильственно перемещались евреи для компактного прожи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f0c9c79cd8c6"/>
          <p:cNvPicPr/>
          <p:nvPr/>
        </p:nvPicPr>
        <p:blipFill>
          <a:blip r:embed="rId1"/>
          <a:stretch/>
        </p:blipFill>
        <p:spPr>
          <a:xfrm>
            <a:off x="4648320" y="1557360"/>
            <a:ext cx="431640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648320" y="333360"/>
            <a:ext cx="403848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торжение гитлеровской армии в СССР 22 июня 1941г. - новый этап антиеврейской политики фашистов. На оккупированные территории Советского Союза вступали мобильные подразделения – айнзацгрупп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c84e195aa3e0"/>
          <p:cNvPicPr/>
          <p:nvPr/>
        </p:nvPicPr>
        <p:blipFill>
          <a:blip r:embed="rId1"/>
          <a:stretch/>
        </p:blipFill>
        <p:spPr>
          <a:xfrm>
            <a:off x="395280" y="404640"/>
            <a:ext cx="432108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5435640" y="-360"/>
            <a:ext cx="345744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29-30 сентябр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941 г. в Бабьем Яре, на окраине Киева, были расстреляны десятки тысяч еврее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0" descr="_News_Photo_image_large_8527"/>
          <p:cNvPicPr/>
          <p:nvPr/>
        </p:nvPicPr>
        <p:blipFill>
          <a:blip r:embed="rId1"/>
          <a:stretch/>
        </p:blipFill>
        <p:spPr>
          <a:xfrm>
            <a:off x="179280" y="1197000"/>
            <a:ext cx="52563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Холокост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(с греч.  Holocaust «всесожжение» ) - обозначение массовых убийств евреев, цыган, славян  в 1933 - 1945 гг. фашист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10322674-holokaust-vojna-koncentracny-tabor"/>
          <p:cNvPicPr/>
          <p:nvPr/>
        </p:nvPicPr>
        <p:blipFill>
          <a:blip r:embed="rId1"/>
          <a:stretch/>
        </p:blipFill>
        <p:spPr>
          <a:xfrm>
            <a:off x="4648320" y="2279520"/>
            <a:ext cx="4038480" cy="316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 1942 г. было решено создать в Польше шесть лагерей смерти, куда будет депортировано еврейское население Европы (Треблинка, Хелм, Собибор, Майданек, Освенцим и Белжец)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Освенц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9" descr="13"/>
          <p:cNvPicPr/>
          <p:nvPr/>
        </p:nvPicPr>
        <p:blipFill>
          <a:blip r:embed="rId1"/>
          <a:stretch/>
        </p:blipFill>
        <p:spPr>
          <a:xfrm>
            <a:off x="395280" y="1125360"/>
            <a:ext cx="3960720" cy="2664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634-3"/>
          <p:cNvPicPr/>
          <p:nvPr/>
        </p:nvPicPr>
        <p:blipFill>
          <a:blip r:embed="rId2"/>
          <a:stretch/>
        </p:blipFill>
        <p:spPr>
          <a:xfrm>
            <a:off x="5189400" y="1197000"/>
            <a:ext cx="3703680" cy="2589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albumslide12"/>
          <p:cNvPicPr/>
          <p:nvPr/>
        </p:nvPicPr>
        <p:blipFill>
          <a:blip r:embed="rId3"/>
          <a:stretch/>
        </p:blipFill>
        <p:spPr>
          <a:xfrm>
            <a:off x="395280" y="3938760"/>
            <a:ext cx="3960720" cy="2658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2" descr="610x"/>
          <p:cNvPicPr/>
          <p:nvPr/>
        </p:nvPicPr>
        <p:blipFill>
          <a:blip r:embed="rId4"/>
          <a:stretch/>
        </p:blipFill>
        <p:spPr>
          <a:xfrm>
            <a:off x="5148360" y="3938760"/>
            <a:ext cx="3744720" cy="25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4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Майдан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3" descr="209056f12820"/>
          <p:cNvPicPr/>
          <p:nvPr/>
        </p:nvPicPr>
        <p:blipFill>
          <a:blip r:embed="rId1"/>
          <a:stretch/>
        </p:blipFill>
        <p:spPr>
          <a:xfrm>
            <a:off x="468360" y="907920"/>
            <a:ext cx="3887640" cy="2878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4" descr="65163096-small_203391"/>
          <p:cNvPicPr/>
          <p:nvPr/>
        </p:nvPicPr>
        <p:blipFill>
          <a:blip r:embed="rId2"/>
          <a:stretch/>
        </p:blipFill>
        <p:spPr>
          <a:xfrm>
            <a:off x="539640" y="4156200"/>
            <a:ext cx="3816360" cy="2441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5" descr="097"/>
          <p:cNvPicPr/>
          <p:nvPr/>
        </p:nvPicPr>
        <p:blipFill>
          <a:blip r:embed="rId3"/>
          <a:stretch/>
        </p:blipFill>
        <p:spPr>
          <a:xfrm>
            <a:off x="4842000" y="1197000"/>
            <a:ext cx="405108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Требли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image003"/>
          <p:cNvPicPr/>
          <p:nvPr/>
        </p:nvPicPr>
        <p:blipFill>
          <a:blip r:embed="rId1"/>
          <a:stretch/>
        </p:blipFill>
        <p:spPr>
          <a:xfrm>
            <a:off x="324000" y="1268280"/>
            <a:ext cx="3638520" cy="5256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gen6"/>
          <p:cNvPicPr/>
          <p:nvPr/>
        </p:nvPicPr>
        <p:blipFill>
          <a:blip r:embed="rId2"/>
          <a:stretch/>
        </p:blipFill>
        <p:spPr>
          <a:xfrm>
            <a:off x="4572000" y="1268280"/>
            <a:ext cx="4176720" cy="2517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119"/>
          <p:cNvPicPr/>
          <p:nvPr/>
        </p:nvPicPr>
        <p:blipFill>
          <a:blip r:embed="rId3"/>
          <a:stretch/>
        </p:blipFill>
        <p:spPr>
          <a:xfrm>
            <a:off x="4643280" y="3938760"/>
            <a:ext cx="4105440" cy="27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обиб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60831264"/>
          <p:cNvPicPr/>
          <p:nvPr/>
        </p:nvPicPr>
        <p:blipFill>
          <a:blip r:embed="rId1"/>
          <a:stretch/>
        </p:blipFill>
        <p:spPr>
          <a:xfrm>
            <a:off x="250920" y="907920"/>
            <a:ext cx="3673440" cy="568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0_1d858_59aecc2e_XL"/>
          <p:cNvPicPr/>
          <p:nvPr/>
        </p:nvPicPr>
        <p:blipFill>
          <a:blip r:embed="rId2"/>
          <a:stretch/>
        </p:blipFill>
        <p:spPr>
          <a:xfrm>
            <a:off x="4643280" y="981000"/>
            <a:ext cx="4176720" cy="2879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3250b7e5b4da"/>
          <p:cNvPicPr/>
          <p:nvPr/>
        </p:nvPicPr>
        <p:blipFill>
          <a:blip r:embed="rId3"/>
          <a:stretch/>
        </p:blipFill>
        <p:spPr>
          <a:xfrm>
            <a:off x="4716360" y="4010040"/>
            <a:ext cx="403236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40384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омимо евреев,  в концлагеря попадали солдаты Красной армии и гражданские лица СССР, плененные фашистами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2" descr="20"/>
          <p:cNvPicPr/>
          <p:nvPr/>
        </p:nvPicPr>
        <p:blipFill>
          <a:blip r:embed="rId1"/>
          <a:stretch/>
        </p:blipFill>
        <p:spPr>
          <a:xfrm>
            <a:off x="5219640" y="189000"/>
            <a:ext cx="3097440" cy="3597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21"/>
          <p:cNvPicPr/>
          <p:nvPr/>
        </p:nvPicPr>
        <p:blipFill>
          <a:blip r:embed="rId2"/>
          <a:stretch/>
        </p:blipFill>
        <p:spPr>
          <a:xfrm>
            <a:off x="4572000" y="3938760"/>
            <a:ext cx="439272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9" descr="22"/>
          <p:cNvPicPr/>
          <p:nvPr/>
        </p:nvPicPr>
        <p:blipFill>
          <a:blip r:embed="rId1"/>
          <a:stretch/>
        </p:blipFill>
        <p:spPr>
          <a:xfrm>
            <a:off x="4140360" y="3716280"/>
            <a:ext cx="4752720" cy="2952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23"/>
          <p:cNvPicPr/>
          <p:nvPr/>
        </p:nvPicPr>
        <p:blipFill>
          <a:blip r:embed="rId2"/>
          <a:stretch/>
        </p:blipFill>
        <p:spPr>
          <a:xfrm>
            <a:off x="4140360" y="333360"/>
            <a:ext cx="4752720" cy="3265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24"/>
          <p:cNvPicPr/>
          <p:nvPr/>
        </p:nvPicPr>
        <p:blipFill>
          <a:blip r:embed="rId3"/>
          <a:stretch/>
        </p:blipFill>
        <p:spPr>
          <a:xfrm>
            <a:off x="324000" y="260280"/>
            <a:ext cx="34560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460872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27 января 1945 г. солдаты Красной Армии освободили узников Освенцим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Эту дату принято считать окончанием холокос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45411b"/>
          <p:cNvPicPr/>
          <p:nvPr/>
        </p:nvPicPr>
        <p:blipFill>
          <a:blip r:embed="rId1"/>
          <a:stretch/>
        </p:blipFill>
        <p:spPr>
          <a:xfrm>
            <a:off x="5003640" y="333360"/>
            <a:ext cx="388944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40384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За период холокоста (1933 – 1945 гг.) было уничтожен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16 000 000 военных и гражданских лиц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6"/>
          <p:cNvPicPr/>
          <p:nvPr/>
        </p:nvPicPr>
        <p:blipFill>
          <a:blip r:embed="rId1"/>
          <a:stretch/>
        </p:blipFill>
        <p:spPr>
          <a:xfrm>
            <a:off x="4427640" y="1341360"/>
            <a:ext cx="453708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Генеральная Ассамблея ООН провозгласила 27 января, день освобождения Освенцима, Международным днём памяти жертв холокос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5136"/>
          <p:cNvPicPr/>
          <p:nvPr/>
        </p:nvPicPr>
        <p:blipFill>
          <a:blip r:embed="rId1"/>
          <a:stretch/>
        </p:blipFill>
        <p:spPr>
          <a:xfrm>
            <a:off x="1979640" y="2997360"/>
            <a:ext cx="532908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648320" y="1125360"/>
            <a:ext cx="40384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"Холокост - это наконечник на выструганной веками стреле антисемитизма…" (Л. Коваль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0" descr="00002a4f"/>
          <p:cNvPicPr/>
          <p:nvPr/>
        </p:nvPicPr>
        <p:blipFill>
          <a:blip r:embed="rId1"/>
          <a:stretch/>
        </p:blipFill>
        <p:spPr>
          <a:xfrm>
            <a:off x="395280" y="981000"/>
            <a:ext cx="4392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68360" y="2708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НЕ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ГЕНОЦИД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РОТИВ «КОГО-ТО»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ГЕНОЦИД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СЕГДА ПРОТИВ ВСЕХ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i"/>
          <p:cNvPicPr/>
          <p:nvPr/>
        </p:nvPicPr>
        <p:blipFill>
          <a:blip r:embed="rId1"/>
          <a:stretch/>
        </p:blipFill>
        <p:spPr>
          <a:xfrm>
            <a:off x="2124000" y="189000"/>
            <a:ext cx="51120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"Память о Холокосте необходима, чтобы наши дети никогда не были жертвами, палачами или равнодушными наблюдателями.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                                            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И. Бауэ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95280" y="620280"/>
            <a:ext cx="40384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Антисемитизм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- вид национальной нетерпимости, враждебное отношение к евреям как народу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1235687852"/>
          <p:cNvPicPr/>
          <p:nvPr/>
        </p:nvPicPr>
        <p:blipFill>
          <a:blip r:embed="rId1"/>
          <a:stretch/>
        </p:blipFill>
        <p:spPr>
          <a:xfrm>
            <a:off x="4356000" y="1341360"/>
            <a:ext cx="4541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"Антисемитизм - это международный язык фашистов"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(И. Эренбург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Объект 2" descr=""/>
          <p:cNvPicPr/>
          <p:nvPr/>
        </p:nvPicPr>
        <p:blipFill>
          <a:blip r:embed="rId1"/>
          <a:stretch/>
        </p:blipFill>
        <p:spPr>
          <a:xfrm>
            <a:off x="4859280" y="1125360"/>
            <a:ext cx="39607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1700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Юдофобия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- дословно "страх перед евреем" - нетерпимость к евреям, синоним антисемитиз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22184"/>
          <p:cNvPicPr/>
          <p:nvPr/>
        </p:nvPicPr>
        <p:blipFill>
          <a:blip r:embed="rId1"/>
          <a:stretch/>
        </p:blipFill>
        <p:spPr>
          <a:xfrm>
            <a:off x="3995640" y="1484280"/>
            <a:ext cx="49690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Геноцид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– уничтожение или преследование людей по признаку определенной общности или происхожде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evrei_i_genocid"/>
          <p:cNvPicPr/>
          <p:nvPr/>
        </p:nvPicPr>
        <p:blipFill>
          <a:blip r:embed="rId1"/>
          <a:stretch/>
        </p:blipFill>
        <p:spPr>
          <a:xfrm>
            <a:off x="4500720" y="836640"/>
            <a:ext cx="43923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Фашизм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– реакционное политическое течение, возникшее в ряде стран после Первой мировой вой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triumph5"/>
          <p:cNvPicPr/>
          <p:nvPr/>
        </p:nvPicPr>
        <p:blipFill>
          <a:blip r:embed="rId1"/>
          <a:stretch/>
        </p:blipFill>
        <p:spPr>
          <a:xfrm>
            <a:off x="3851280" y="1197000"/>
            <a:ext cx="5041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788000" y="836640"/>
            <a:ext cx="435600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Фашизм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-  форма тоталитаризма, открыто террористическая диктатура, уничтожающая демократические права и свободы, опирающаяся на прямое насилие, расиз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04d213980464"/>
          <p:cNvPicPr/>
          <p:nvPr/>
        </p:nvPicPr>
        <p:blipFill>
          <a:blip r:embed="rId1"/>
          <a:stretch/>
        </p:blipFill>
        <p:spPr>
          <a:xfrm>
            <a:off x="179280" y="1557360"/>
            <a:ext cx="424836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2T03:57:46Z</dcterms:created>
  <dc:creator>Admin</dc:creator>
  <dc:description/>
  <dc:language>en-US</dc:language>
  <cp:lastModifiedBy>Елена Витальевна</cp:lastModifiedBy>
  <dcterms:modified xsi:type="dcterms:W3CDTF">2015-11-12T09:29:54Z</dcterms:modified>
  <cp:revision>11</cp:revision>
  <dc:subject/>
  <dc:title>Холокост – помнить или забыть?</dc:title>
</cp:coreProperties>
</file>